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8C0B-8766-4242-9F24-5442A1172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E1E7-20AE-4B5C-88A3-CBD4B74AA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845B-EA09-4A0A-A399-82D0AF1AC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DBA4-4BDB-4819-B76B-23DAA27EA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A05-8515-4489-AE21-3326CECC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9D3-4B6A-4983-858C-C058F68B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474-54F0-4760-B932-07435273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151-1A25-4E5C-9F8A-1E53CF19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697-DD31-41F5-B146-58DCF03F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465-3D34-4873-8CEE-724A3F21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637-19D7-48D9-B108-0BAD22F4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FD2-B7ED-484F-B359-E13BE377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649-E3BC-434B-BE13-D0431B52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31E-B517-4C12-9774-96C142FB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B21-3184-4637-9096-F5B5452B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966-9291-41C0-B8AE-82EA6040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80DD-35A3-4789-B80E-8558A4FEF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741320" cy="1333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Learning 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 course you hope to teach nex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EED 5280- Active Learning: Math, Science &amp; Technology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three things students must get before they leave the course.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g Ideas   Ke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d tech tools can be used to enhance A.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ow to adapt activities up or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ome sources of A.L.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741320" cy="1333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, and then pick one of these and develop one lesson-level LT that would be useful in this contex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d tech tools can be used to enhance A.L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e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tudents will develop their ability to use a selected PhET simulation to enhance student learning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Learning 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741320" cy="1333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Learning Target out of this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lassify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 fact - that which we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 concept - that which we under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 skill - that which we can do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 disposition - that which we feel, valu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ciate, etc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tate it clearly and concis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ake an explicit connection to standard(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tudents will develop their ability to use a selected PhET simulation to enhance student learning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Learning 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5:40:00Z</dcterms:created>
  <dc:creator>Mark Roddy</dc:creator>
  <dc:description/>
  <dc:language>en-US</dc:language>
  <cp:lastModifiedBy>Roddy, Mark</cp:lastModifiedBy>
  <cp:lastPrinted>2017-09-25T00:53:31Z</cp:lastPrinted>
  <dcterms:modified xsi:type="dcterms:W3CDTF">2017-09-25T01:00:18Z</dcterms:modified>
  <cp:revision>21</cp:revision>
  <dc:subject/>
  <dc:title>Create a Learning Target</dc:title>
</cp:coreProperties>
</file>